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2F8-E9B6-47DB-A171-EB4A604D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A8B9-734D-46F0-AC79-C1C4F682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9C17-9654-40F0-8902-DF577B4C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8FD-E01F-466F-9751-2A061C1B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A50-40A7-41B0-8016-1DD98AF9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243-4C25-4A51-9CDC-F18A4949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526-A2C8-4D54-AE4A-DFF795B3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039-085F-473A-8175-28310D3E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F2C-7E13-4A05-84F7-AA19E113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74B-707F-4039-A0B8-62B50C5D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D32-E5B9-4F56-BC7E-7D72C53E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D34-FBC9-4057-849B-A30DD280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D812-4EE0-4736-AB93-0F4A2C369CF6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开发工具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的程序设计需要在特定的编译器中进行。编译器完成对程序的编译、连接等工作，并最终生成可执行文件。对于单片机程序的开发，一般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的集成开发环境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开发工具目前的最高版本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支持汇编语言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的程序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、以及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进行单片机设计与仿真。本章内容包括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安装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集成开发环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包括安装过程、项目管理窗口、菜单栏、工具栏，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管理配置和各种常用的窗口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个十分优秀的单片机开发软件，应用的十分广泛，熟练掌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的使用是单片机设计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是德国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Softwar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兼容单片机软件开发系统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是集成的可视化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操作界面，其提供了丰富的库函数和各种编译工具，能够对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单片机以及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兼容的绝大部分类型的单片机进行设计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可以支持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程序设计语言，也可以直接进行汇编语言的设计与编译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目前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已经被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收购，成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旗下的产品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的集成开发环境最高版本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版本号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8.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是一个非常优秀的编译器，受到广大单片机设计者的广泛使用。其主要特点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汇编语言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语言等多种单片机设计语言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可视化的文件管理，界面友好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丰富的产品线，除了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及其兼容内核的单片机外，还新增加了对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产品的支持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具有完善的编译连接工具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具备丰富的仿真调试功能，可以仿真串口、并口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/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以及中断等资源，同时也可以和外部仿真器联合进行在线调试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实时多任务操作系统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在一个工作空间中进行多项目的程序设计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多级代码优化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2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安装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集成开发环境可以单独安装，也可以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中国区特殊设计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 RealView MDK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获得。这里以最新版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3 V8.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来介绍其集成开发环境的安装及使用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系统要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了达到比较好的软件运行效果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计算机的硬件和软件配置有一定的要求，其实这些要求是十分低的，一般的系统都完全可以胜任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存大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M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至少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5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硬盘剩余空间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indows9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及其以上的操作系统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软件安装步骤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00200" y="4221000"/>
            <a:ext cx="2666880" cy="1874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57800" y="4191120"/>
            <a:ext cx="266688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集成开发环境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提供了良好的图形交互界面和强大的功能，其支持绝大部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的单片机。这里首先介绍一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软件开发环境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1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项目管理窗口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是具有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界面的应用程序，对于一个打开的项目工程，其界面效果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0" y="2819520"/>
            <a:ext cx="48006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2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菜单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菜单栏，其中提供了项目操作、编辑操作、编译调试以及帮助等各种常用操作。下面分别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ile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“File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各种文件操作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di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di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单片机程序源代码的各种编辑方式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ie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ie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各种窗口和工具栏的显示和隐藏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rojec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rojec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项目的管理和编译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bug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bug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项目调试和仿真中使用的各种命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lash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“Flash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程序下载、擦除以及配置等操作，需要外部仿真器的支持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eripheral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eripheral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单片机上的各种资源，供项目仿真调试时使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ool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ool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第三方软件的控制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VC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VC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软件版本的控制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indo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indo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对窗口的排列管理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Help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Help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各种帮助命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3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工具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同其他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应用程序一样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除了在菜单栏提供了完整而丰富的操作命令外，也提供了相当完善的工具栏，便于快速进行操作。下面分别进行介绍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文件操作工具栏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编译工具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编译工具栏提供了编译项目和文件的各种操作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调试工具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调试工具栏提供了项目仿真和调试过程中经常使用的命令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038840" cy="676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295280" y="2616120"/>
            <a:ext cx="7086600" cy="60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514600" y="5257800"/>
            <a:ext cx="44766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4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管理配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集成开发环境提供了良好的项目管理配置，用户可以根据自己的习惯和需要进行适当的配置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选择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dit”→“Configuration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命令，此时弹出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onfiguration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对话框，如图所示。其中有多个选项卡，下面分别对其进行介绍。并且每个选项卡中有很多设置选项，这里不能逐个都介绍，这里选择最常用的进行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14600" y="32004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5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各种常用窗口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集成开发环境中提供了很多不同用途的窗口，利用这些窗口可以完成源代码的编辑、反汇编的查看、各种编译和调试的输出结果、堆栈中的数据查看、程序变量的内容查看以及仿真波形图等。下面介绍一些在程序设计及仿真调试中常用的窗口及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源代码编辑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反汇编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观察和堆栈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存储器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寄存器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串行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逻辑分析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符号观察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11:19Z</dcterms:created>
  <dc:creator>cheng</dc:creator>
  <dc:description/>
  <dc:language>en-US</dc:language>
  <cp:lastModifiedBy>cheng</cp:lastModifiedBy>
  <dcterms:modified xsi:type="dcterms:W3CDTF">2008-10-13T05:37:21Z</dcterms:modified>
  <cp:revision>2</cp:revision>
  <dc:subject/>
  <dc:title>第3章  Keil C51开发工具简介</dc:title>
</cp:coreProperties>
</file>